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Înv. Gurin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A5AC-DE4D-46DF-A08B-B7AE4B78D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693-D5E7-4161-9100-22348BCCC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Înv. Gurin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CF2-D272-478C-803D-D4DF2546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D5B-23A5-40B4-BA51-E37AE64E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5E1-D551-4073-9D8B-102BC18B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A86-F590-4ED6-9899-6B52BE99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05B3-0B38-4467-8A20-89AA7055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CD0E-F0F2-43F4-81DE-AFA9B1C9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A4B8-1206-4487-B537-24072BF3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3746-12C1-46BC-9105-E79AC803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F648-7EE9-4398-BF16-28EABA19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C728-5741-4884-905F-284EA4FB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23FD-7118-4940-8B73-51CBF28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E65-0685-4653-96E8-702934E0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8B78-D073-4B68-84C0-964BD99F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84D0-D66B-4D49-9859-381DBDB3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CC73-1484-431B-96AD-EFD6872C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3A83-107D-4F73-8F44-70374985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E0F9-3C0E-403E-A42D-989C6338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08D-B1D9-4C53-AD11-EA462722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DDF-0F63-49C9-BBC5-5A2FB4A4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75E-8D8C-4CE1-AF92-DB2DC1DC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676-D87E-4434-BF07-2D6858A7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BBC-C6CB-4240-8276-50D4D8A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17F-36B6-4A65-A878-022D3FCB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211-02AF-4627-BB39-CEF74F9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0000" y="259560"/>
              <a:ext cx="695520" cy="690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6920" y="42768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0720" y="1500840"/>
              <a:ext cx="695160" cy="690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0720" y="4007520"/>
              <a:ext cx="695160" cy="690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0720" y="2751840"/>
              <a:ext cx="695160" cy="690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0000" y="5253840"/>
              <a:ext cx="695520" cy="690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A195-BE09-4948-A2E2-8D5E29E96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prstGeom prst="pie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prstGeom prst="pie">
              <a:avLst/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0A72-1058-4A98-B7E8-1704D649A2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57160" y="32148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200" spc="-1" strike="noStrike">
                <a:solidFill>
                  <a:srgbClr val="000000"/>
                </a:solidFill>
                <a:latin typeface="Times New Roman"/>
              </a:rPr>
              <a:t>Numerele naturale de la 100 la 1 000</a:t>
            </a:r>
            <a:br>
              <a:rPr sz="7200"/>
            </a:br>
            <a:r>
              <a:rPr b="1" i="1" lang="ro-RO" sz="7200" spc="-1" strike="noStrike">
                <a:solidFill>
                  <a:srgbClr val="000000"/>
                </a:solidFill>
                <a:latin typeface="Times New Roman"/>
              </a:rPr>
              <a:t>- recapitulare şi sistematizare</a:t>
            </a:r>
            <a:endParaRPr b="0" i="1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transition advTm="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600" spc="-1" strike="noStrike">
                <a:solidFill>
                  <a:srgbClr val="ffffcc"/>
                </a:solidFill>
                <a:latin typeface="Times New Roman"/>
              </a:rPr>
              <a:t>681 și 68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Numărul din care scădem se numește.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Numărul din care scădem se numește </a:t>
            </a:r>
            <a:r>
              <a:rPr b="1" lang="ro-RO" sz="7200" spc="-1" strike="noStrike" u="sng">
                <a:solidFill>
                  <a:srgbClr val="ffffcc"/>
                </a:solidFill>
                <a:uFillTx/>
                <a:latin typeface="Times New Roman"/>
              </a:rPr>
              <a:t>descăzut </a:t>
            </a: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Numărul 345 , este scris corect cu litere mai j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- Treisute patru zeci și cinc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cc"/>
                </a:solidFill>
                <a:latin typeface="Times New Roman"/>
              </a:rPr>
              <a:t>Nu este scris corect, pentru că se scri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 u="sng">
                <a:solidFill>
                  <a:srgbClr val="ffffcc"/>
                </a:solidFill>
                <a:uFillTx/>
                <a:latin typeface="Times New Roman"/>
              </a:rPr>
              <a:t>trei sute patruzeci și cin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000000"/>
                </a:solidFill>
                <a:latin typeface="Times New Roman"/>
              </a:rPr>
              <a:t>Termenul necunoscut într-o operație de adunare îl aflăm....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4280" y="164304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cc"/>
                </a:solidFill>
                <a:latin typeface="Times New Roman"/>
              </a:rPr>
              <a:t>Termenul necunoscut într-o operație de adunare îl aflăm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 u="sng">
                <a:solidFill>
                  <a:srgbClr val="ffffcc"/>
                </a:solidFill>
                <a:uFillTx/>
                <a:latin typeface="Times New Roman"/>
              </a:rPr>
              <a:t>scăzând din sumă termenul cunosc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Spuneți 2 numere mai mari decât 326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800" spc="-1" strike="noStrike">
                <a:solidFill>
                  <a:srgbClr val="ffffcc"/>
                </a:solidFill>
                <a:latin typeface="Times New Roman"/>
              </a:rPr>
              <a:t>327 și 3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Expresia matematică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 cu at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â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mai mult/mare”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 ne indică că trebuie să facem operația de ..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5244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Times New Roman"/>
              </a:rPr>
              <a:t>JOC IDAC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1" lang="ro-RO" sz="3200" spc="-1" strike="noStrike">
                <a:solidFill>
                  <a:srgbClr val="cc0000"/>
                </a:solidFill>
                <a:latin typeface="Times New Roman"/>
              </a:rPr>
              <a:t>RASPUNDE ÎN  5  SECUND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d147"/>
                </a:solidFill>
                <a:latin typeface="Times New Roman"/>
              </a:rPr>
              <a:t>Pentru fiecare întrebare ai  5 secunde pentru a da un răsp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d147"/>
                </a:solidFill>
                <a:latin typeface="Times New Roman"/>
              </a:rPr>
              <a:t>Dacă răspunsul tău este corect iei de pe masă o floare pentru că ai obţinut un pun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d147"/>
                </a:solidFill>
                <a:latin typeface="Times New Roman"/>
              </a:rPr>
              <a:t>Dacă răspunsul tău e incorect, te rog să fii mai atent data viito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1214280" y="28584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Numerele naturale de la 100 la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ffffcc"/>
                </a:solidFill>
                <a:latin typeface="Times New Roman"/>
              </a:rPr>
              <a:t>..... de adunar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Numărul pe care îl scădem se numește.....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Numărul pe care îl scădem se numește </a:t>
            </a:r>
            <a:r>
              <a:rPr b="1" lang="ro-RO" sz="7200" spc="-1" strike="noStrike" u="sng">
                <a:solidFill>
                  <a:srgbClr val="ffffcc"/>
                </a:solidFill>
                <a:uFillTx/>
                <a:latin typeface="Times New Roman"/>
              </a:rPr>
              <a:t>scăzător</a:t>
            </a: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Descăzutul îl aflăm......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ffcc"/>
                </a:solidFill>
                <a:latin typeface="Times New Roman"/>
              </a:rPr>
              <a:t>Descăzutul îl afăm </a:t>
            </a:r>
            <a:r>
              <a:rPr b="1" lang="ro-RO" sz="6600" spc="-1" strike="noStrike" u="sng">
                <a:solidFill>
                  <a:srgbClr val="ffffcc"/>
                </a:solidFill>
                <a:uFillTx/>
                <a:latin typeface="Times New Roman"/>
              </a:rPr>
              <a:t>adunând la rest scăzătorul</a:t>
            </a:r>
            <a:r>
              <a:rPr b="0" lang="ro-RO" sz="66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Adevărat sau fals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643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&lt; 6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al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643&gt; 63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Expresia matematică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 cu at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â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mai 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puți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mic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 ne indică că trebuie să facem operația de ..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ffffcc"/>
                </a:solidFill>
                <a:latin typeface="Times New Roman"/>
              </a:rPr>
              <a:t>.....de scăder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ezultatul opera</a:t>
            </a: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ției de adunare se numește..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4400" spc="-1" strike="noStrike">
                <a:solidFill>
                  <a:srgbClr val="cc0000"/>
                </a:solidFill>
                <a:latin typeface="Times New Roman"/>
              </a:rPr>
              <a:t>Răspunde</a:t>
            </a: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000000"/>
                </a:solidFill>
                <a:latin typeface="Times New Roman"/>
              </a:rPr>
              <a:t>Din câte sute, din câte zeci şi din câte unităţi este format numărul 563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cc"/>
                </a:solidFill>
                <a:latin typeface="Times New Roman"/>
              </a:rPr>
              <a:t>Rezultatul operației de adunare se numește </a:t>
            </a:r>
            <a:r>
              <a:rPr b="1" lang="ro-RO" sz="5400" spc="-1" strike="noStrike" u="sng">
                <a:solidFill>
                  <a:srgbClr val="ffffcc"/>
                </a:solidFill>
                <a:uFillTx/>
                <a:latin typeface="Times New Roman"/>
              </a:rPr>
              <a:t>sumă sau total</a:t>
            </a:r>
            <a:r>
              <a:rPr b="0" lang="ro-RO" sz="5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Între numerele 349 și 351 se află numărul..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...... se află numărul </a:t>
            </a:r>
            <a:r>
              <a:rPr b="1" lang="ro-RO" sz="7200" spc="-1" strike="noStrike" u="sng">
                <a:solidFill>
                  <a:srgbClr val="ffffcc"/>
                </a:solidFill>
                <a:uFillTx/>
                <a:latin typeface="Times New Roman"/>
              </a:rPr>
              <a:t>350</a:t>
            </a: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Scăzătorul îl aflăm....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ffcc"/>
                </a:solidFill>
                <a:latin typeface="Times New Roman"/>
              </a:rPr>
              <a:t>Scăzătorul îl aflăm </a:t>
            </a:r>
            <a:r>
              <a:rPr b="1" lang="ro-RO" sz="6600" spc="-1" strike="noStrike" u="sng">
                <a:solidFill>
                  <a:srgbClr val="ffffcc"/>
                </a:solidFill>
                <a:uFillTx/>
                <a:latin typeface="Times New Roman"/>
              </a:rPr>
              <a:t>scăzând din descăzut restul</a:t>
            </a:r>
            <a:r>
              <a:rPr b="0" lang="ro-RO" sz="6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Adevărat sau f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918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98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Fals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918</a:t>
            </a: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&lt;</a:t>
            </a: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 98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Numărul 546 are pe poziția zecilor cifra 5 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ffffcc"/>
                </a:solidFill>
                <a:latin typeface="Times New Roman"/>
              </a:rPr>
              <a:t>Fals! Are pe poziția zecilor cifra 4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Spuneți 2 numere mai mici decât 500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cc"/>
                </a:solidFill>
                <a:latin typeface="Times New Roman"/>
              </a:rPr>
              <a:t>Numărul 563 este format di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cc"/>
                </a:solidFill>
                <a:latin typeface="Times New Roman"/>
              </a:rPr>
              <a:t>5 s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cc"/>
                </a:solidFill>
                <a:latin typeface="Times New Roman"/>
              </a:rPr>
              <a:t>6 ze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cc"/>
                </a:solidFill>
                <a:latin typeface="Times New Roman"/>
              </a:rPr>
              <a:t>3 unităţ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300 și 400 ...sau alte variante de răspun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split dir="in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V-a plăcut acest concu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800" spc="-1" strike="noStrike">
                <a:solidFill>
                  <a:srgbClr val="ffffcc"/>
                </a:solidFill>
                <a:latin typeface="Times New Roman"/>
              </a:rPr>
              <a:t>Cu siguranță , da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Numărul 673 are pe poziția sutelor cifra 6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Da, este adevăra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Numerele care se adună se numesc...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ffcc"/>
                </a:solidFill>
                <a:latin typeface="Times New Roman"/>
              </a:rPr>
              <a:t>Numerele care se adună se numesc termeni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000000"/>
                </a:solidFill>
                <a:latin typeface="Times New Roman"/>
              </a:rPr>
              <a:t>Următoarele 2 numere consecutive după 680 sunt....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17:33:58Z</dcterms:created>
  <dc:creator>Cristian</dc:creator>
  <dc:description/>
  <dc:language>en-US</dc:language>
  <cp:lastModifiedBy>Gurin Ionut</cp:lastModifiedBy>
  <dcterms:modified xsi:type="dcterms:W3CDTF">2008-04-16T19:31:58Z</dcterms:modified>
  <cp:revision>103</cp:revision>
  <dc:subject/>
  <dc:title>Anton Pann</dc:title>
</cp:coreProperties>
</file>